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FA18-9FB7-4B17-935A-866BE5922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055C-77D9-4FE4-B169-D215B304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5074-B4C0-4C7A-ABB4-13EB084F3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0BB3-5DAE-4740-BA98-ED56E9841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1CD1-F341-4418-9C01-EBE7CB505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52AB-84E3-4229-940A-1095C954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6EA9-27AB-4F07-82D8-E34A4485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03B0-E8EC-4887-B422-6C2DD36B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5094-7A06-4280-B5DD-A0724E18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890C-C8B0-4227-8C9E-FB772232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9EDC-8D20-48CA-B729-EDCDE845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CD2F-E4C5-427A-83C0-88A8797A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D1AD-4222-478D-9C7B-9282CE0B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969F-5D51-44E4-A3FF-2AFA65ED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0F91-772E-4249-8177-63F39E5E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F88B-77D3-4182-9E7B-9EF5C7590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6405-8E08-4A1E-8A36-98CAEFA32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C83C-B2BF-4681-90F0-5A0CC50D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499B-671F-4D86-9B2A-4163189F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BBD1-E20B-404C-8483-ADE0E664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1C13-76CA-40C3-BAB2-A1BC3D57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F88B-103F-4BDD-9675-7ED51C9A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6930-A7D4-407A-9BB1-EACC9F00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0A43-0DC6-4B73-AF5D-EDABB0E8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2AF9-84C7-4342-86FD-73AE4A76959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13A8-607A-4279-96FD-7758BF900D4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o is this man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360" y="555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43000" y="895320"/>
            <a:ext cx="669780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1956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hrushchev has outmaneuvered his rivals and becomes effectively the leader of the USS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913280" y="1600200"/>
            <a:ext cx="3511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His Actions &amp; Polici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e-Stalinis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ret speech given in 195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icizes Stalin and accuses him of crimes against the Communist Pa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ses some of Stalin’s cr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eting with a mixture of shock, disbelief and relief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913280" y="1600200"/>
            <a:ext cx="3511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Thaw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ly greater openness, freedom and less censor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dn’t extend to the Eastern European countries under USSR control: these were kept in a tight gr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53000" y="2292480"/>
            <a:ext cx="403380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gricultural Refor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hrushchev was an ex-peasa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really focused on the problems in agriculture in the USS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xed su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53000" y="2467080"/>
            <a:ext cx="403380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irgin Land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USSR had millions of square kilometers of unused 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a was to bring this land into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pecially in what is now known as Kazakhst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53000" y="1882800"/>
            <a:ext cx="4033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itial succes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beginning grains harvests up spectacular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53000" y="1882800"/>
            <a:ext cx="4033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etback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 the land was often unsuitable for the crops used and the amount they produced reduced rapid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53000" y="1882800"/>
            <a:ext cx="4033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dust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focus on consumer go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successes, but still far behind the western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53000" y="2467080"/>
            <a:ext cx="403380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Space Ra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viet Union took the l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human space flight in 1961 (first dog as well before this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n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osted prestige of the USSR, seemed to be ‘beating’ the U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53000" y="2152800"/>
            <a:ext cx="403380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ikita Khrushchev Lesson Objectiv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ｷ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o identify the key features of Destalinis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ｷ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o produce a clear definition of the concept Destalinis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ｷ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o establish why Khrushchev denounced Stal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ｷ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o discuss reasons why Khrushchev emerged as leader of the Soviet Union after the death of Stalin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lations with Chin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nese Communist Party disagreed with Khrushchev’s criticism of Stal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hrushchev refused to help China develop its own Nuclear Bomb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997520" y="1600200"/>
            <a:ext cx="33433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astern Europ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s under USSR control thought that ‘De-Stalinisation’ meant freedom for them to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hrushchev crushed rebellions with the Red Ar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ilt the Berlin Wa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653000" y="2141640"/>
            <a:ext cx="403380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ownfall - removed from power 1964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onal Style: banging shoe on the table during UN meeting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ban Missiles crisis: had to back d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ndling of Eastern Euro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53000" y="2500200"/>
            <a:ext cx="4033800" cy="27306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604840" y="9367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 his own w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m old and tired. I’ve done the main thing. Relations among us, the style of leadership, has changed drastically…The fear’s gone. That’s my contribution.” Khrushche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You need to know about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e to Power 1953-5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-stali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icultural and Industrial Poli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wnfall including Eastern Europe and foreign affa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53000" y="1959120"/>
            <a:ext cx="4033800" cy="38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hrushchev’s rise to pow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ri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led powerful NKV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liked by army as he helped purge it in the late 1930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n’t fight in the ‘Great Patriotic War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happened to Beria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viet Commander in Chief (head of the army) Marshall Zhukov admired Khrushche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hrushchev was able to get the support of the ar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rounded his house, arrested him, put on trial and sho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was the exception rather than the rule: from now on leaders tended to be demoted or removed from power rather than shot from this point forward, but Beria was never likely to ‘go quietly’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lenkov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viet ‘Premier’ (Prime minister/head of government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le organiser and began some of the relaxation in terror and improvement in relations with the outsid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Khrushchev controlled the PARTY and had a forceful person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enkov was undermined by Khrushchev who travelled the country criticising the government (and therefore Malenkov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55 Malenkov resigns and gives up any hope of becoming the next lea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laced by Bulganin for a time, but he is very much dominated by Khrushche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hrushchev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led the Pa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r with the army and Zhukov in partic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ceful pers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veled the country wid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late 1955 / early 56 we can really talk about Khrushchev as the ‘leader’ of the USS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Destalinisation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0328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cret Spe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932360" y="4365720"/>
            <a:ext cx="386712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ut First, an overview of Khrushchev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a rough mindmap with the headings: De-stalinisation &amp; the Thaw, Agriculture, Industrialisation, Rise to Power, Foreign Policy &amp; Fall from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rough notes as you watch the next few slides, you will be translating them into neat notes later after we have finished the un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sure you leave space to add more rough notes l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im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s Re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utality / Viol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olerance towards colleag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al and physical annihi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llegal means illeg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gmatized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seho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use of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372360" y="3573360"/>
            <a:ext cx="22381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ikita Khrushchev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t facts that you need to know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913280" y="1600200"/>
            <a:ext cx="3511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alin dies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lin died March 1953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eriod 1953-56 sees a ‘collective leadership’ of 10, from which emerged 3 key rivals for power: Khrushchev, Beria &amp; Malenk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53000" y="1954080"/>
            <a:ext cx="4033800" cy="3822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2286000"/>
            <a:ext cx="140364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The contender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53-5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hrushchev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retary of of the Central Committee of the Communist Party, he has the power to appoint large numbers of committee me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913280" y="1600200"/>
            <a:ext cx="3511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lenkov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d of the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998960" y="1600200"/>
            <a:ext cx="3340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eri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ster of Internal Affairs. Control of the security pol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102280" y="1600200"/>
            <a:ext cx="3132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ulwich</cp:lastModifiedBy>
  <dcterms:modified xsi:type="dcterms:W3CDTF">2008-02-21T04:34:55Z</dcterms:modified>
  <cp:revision>9</cp:revision>
  <dc:subject/>
  <dc:title> Who is this man?</dc:title>
</cp:coreProperties>
</file>